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615-DB8C-400A-8BE0-25CF5827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9D6-7DFB-4C8D-BB23-B91DD1F1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90A-5DCA-45E5-8F6F-5174A080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F1A-53B4-4E15-845F-2E490D43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F5CC-5146-4114-9EB3-3C394A74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4AB2-487B-4E1B-B4D8-B4D9E8E4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657E-75B5-4D1C-BDC6-B22D4F2D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D05F-91BE-41E3-B713-CF2D2CBF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3F9C-E5A8-488D-A30B-3841572D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7FE1-DC84-4F78-8770-D6C85940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BAF8-FFF5-4364-AA30-41193B70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AEA-791A-494A-906E-46E88EC8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8EF2-AC7E-4FB0-A561-E3740127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1B7A-C33F-49B1-B428-7D8B4C81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AB7B-733D-4EA4-B9D4-258161EC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B3D1-1871-4B26-8D5B-E539ECA6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641C-EE8F-4A7E-9E1C-5F21C86D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3A8-65B4-4630-BAAD-15E3FA78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E0F-DAAA-471B-BA48-6AA34001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B31-58BB-42DE-9875-B769C93F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0907-CCC4-40A5-A2F8-AAB51D92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1854-9633-4AE2-B26B-7CDA7D6D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547-D14F-4960-B541-77787226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332-9B46-4AE1-B68B-3293746E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ECF1-882F-493C-B723-296B81538B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20F0-29CC-4642-BD62-F443E3FDDD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hapter 8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o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tribu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ways use SAID – nothing 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at the examples on p. 19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 attributions at the end of the sentence.  Then, continue on with the quo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are elated to have so many people out for powerlifting this year,” said Mr. Ed Whiting.  “It’s great to see so many students care about powerlifting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peech Stor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the theme of the spee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pe recorder is helpfu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s of quotes – let the speaker tell the s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online for a copy of the speaker’s manuscri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 we begin…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a journalist you must include quotes within your story, but those quotes must be accu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irect Quota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ctly what the speaker s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convey the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ll us something we don’t already kn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127 people in band this year,” said Dr. Duane Niles.  (Is this good or bad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ctnes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people speak, they are not always grammatically corr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uld you adjust the quo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r. V method works like this – however they say it is how it gets prin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 sentence spoken is so strange, simply paraphrase what the speaker has s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Use a tape record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useful – ALWAYS take notes as w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be intimidating for the interview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rthand / speedwriting works well if you know 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hen not to quot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anity – sometimes it’s ok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grammar – don’t make people seem illiterate but don’t fix their grammar ei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araphras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 for shortening lengthy quotes – get more to the 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nly real hazard is that certain words must be adjus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 to ‘they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aphrase fa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n’t quote facts – it’s lazy and bo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at the examples on p. 191-19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void Repeti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write a statement and then say it agai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young journalists fall into this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artial Quota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r. V is not a fan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work someti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carry this to ‘extremes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20:48:42Z</dcterms:created>
  <dc:creator>jvanengen</dc:creator>
  <dc:description/>
  <dc:language>en-US</dc:language>
  <cp:lastModifiedBy>Administrator</cp:lastModifiedBy>
  <dcterms:modified xsi:type="dcterms:W3CDTF">2009-10-14T20:59:38Z</dcterms:modified>
  <cp:revision>4</cp:revision>
  <dc:subject/>
  <dc:title>Chapter 8</dc:title>
</cp:coreProperties>
</file>